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30FE-4CC8-40AF-A2E2-D2FDD2E93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structions for making your g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Decide which column is to be correct. –Place your cursor on the correct letter and click.  A box appears around the letter.  Right click, click 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hyperlin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dit hyperlin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yperlink 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use down arrow.  Click on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righ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ok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same instructions for the 2 wrong columns except click 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4 sorry.   ----  All you need to do to change out the question and the choices is to click on it and a text box appears,  erase and type 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E24-C981-4F0E-B4C0-FA71985E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B18F-266E-403D-B9D4-896895E8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77F-E49D-42F0-920A-9B5D8BA4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918-E3DB-41F0-A9BC-0EA52A83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49B9-8CD3-429A-B21F-F1A0239D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5747-FDCA-44C7-8E48-9D029A6A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9777-3A93-4675-A648-F8C1705A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11BE-E732-49F2-8725-F0A4401D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3195-FBC6-4148-B146-66BB0A68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1B13-0B99-45CC-B0E0-FA9B7DA6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5460-A854-475B-A4ED-CFD4DF4D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1A0-4E8D-4692-8674-F08EB68E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89F0-06AA-4EC2-8C5B-FFCFCDA9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9380-3715-4391-8BA5-F57C8413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FCDA-C18F-45F9-A282-082FC620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0CF3-D262-4F5F-919E-1AB0B2B1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8104-536D-4177-B1F8-FB89A577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C34-9B58-40AD-88F1-AC764B96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320-7D5F-4F15-AA79-8EF4FD13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D00-5472-43C4-B4B3-FCABDF15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65D-9DB6-48BF-B37E-7AE2CB28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54C-67AE-4DB0-9942-16FA4694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535-C594-4915-8DB2-4079CD05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04EF-2BEA-4283-BF86-0FD0DEC7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8DD3-E824-4C9C-AF14-A5A0BEF3ED7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B242-E211-466C-AF26-F349F3E8E8E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ftcpublishing.com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ND THE CORRECT OR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bd04961_" descr=""/>
          <p:cNvPicPr/>
          <p:nvPr/>
        </p:nvPicPr>
        <p:blipFill>
          <a:blip r:embed="rId1"/>
          <a:stretch/>
        </p:blipFill>
        <p:spPr>
          <a:xfrm>
            <a:off x="2590920" y="3733920"/>
            <a:ext cx="4492440" cy="2890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14600" y="228600"/>
            <a:ext cx="44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http://www.FTCPublishing.c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80880"/>
            <a:ext cx="9144000" cy="6477120"/>
          </a:xfrm>
          <a:custGeom>
            <a:avLst/>
            <a:gdLst>
              <a:gd name="textAreaLeft" fmla="*/ 419760 w 9144000"/>
              <a:gd name="textAreaRight" fmla="*/ 8724240 w 9144000"/>
              <a:gd name="textAreaTop" fmla="*/ 419760 h 6477120"/>
              <a:gd name="textAreaBottom" fmla="*/ 6057360 h 6477120"/>
            </a:gdLst>
            <a:ahLst/>
            <a:rect l="textAreaLeft" t="textAreaTop" r="textAreaRight" b="textAreaBottom"/>
            <a:pathLst>
              <a:path w="30493" h="21600">
                <a:moveTo>
                  <a:pt x="0" y="0"/>
                </a:moveTo>
                <a:lnTo>
                  <a:pt x="30493" y="0"/>
                </a:lnTo>
                <a:lnTo>
                  <a:pt x="30493" y="21600"/>
                </a:lnTo>
                <a:lnTo>
                  <a:pt x="0" y="21600"/>
                </a:lnTo>
                <a:close/>
              </a:path>
              <a:path fill="lightenLess" w="30493" h="21600">
                <a:moveTo>
                  <a:pt x="0" y="0"/>
                </a:moveTo>
                <a:lnTo>
                  <a:pt x="30493" y="0"/>
                </a:lnTo>
                <a:lnTo>
                  <a:pt x="29093" y="1400"/>
                </a:lnTo>
                <a:lnTo>
                  <a:pt x="1400" y="1400"/>
                </a:lnTo>
                <a:close/>
              </a:path>
              <a:path fill="darken" w="30493" h="21600">
                <a:moveTo>
                  <a:pt x="30493" y="0"/>
                </a:moveTo>
                <a:lnTo>
                  <a:pt x="30493" y="21600"/>
                </a:lnTo>
                <a:lnTo>
                  <a:pt x="29093" y="20200"/>
                </a:lnTo>
                <a:lnTo>
                  <a:pt x="29093" y="1400"/>
                </a:lnTo>
                <a:close/>
              </a:path>
              <a:path fill="darkenLess" w="30493" h="21600">
                <a:moveTo>
                  <a:pt x="30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93" y="20200"/>
                </a:lnTo>
                <a:close/>
              </a:path>
              <a:path fill="lighten" w="30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238880" y="2819520"/>
            <a:ext cx="3524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038480" y="2819520"/>
            <a:ext cx="3524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B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52880" y="3809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33920" y="3808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ck on  A   B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C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05120"/>
            <a:ext cx="8001000" cy="528480"/>
          </a:xfrm>
          <a:prstGeom prst="rect">
            <a:avLst/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434340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95288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Che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556272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73392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34340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49528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373392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434340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556272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556272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3352680"/>
            <a:ext cx="0" cy="3124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3352680"/>
            <a:ext cx="0" cy="3124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373392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495288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95280" y="2819520"/>
            <a:ext cx="3524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990720" y="274320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3733920" y="274320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lastslide"/>
          </p:cNvPr>
          <p:cNvSpPr/>
          <p:nvPr/>
        </p:nvSpPr>
        <p:spPr>
          <a:xfrm>
            <a:off x="6934320" y="274320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228600"/>
            <a:ext cx="3276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IS THE ORDER?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0880"/>
            <a:ext cx="380880" cy="457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380880"/>
            <a:ext cx="380880" cy="457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380880"/>
            <a:ext cx="380880" cy="457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0800" y="2030400"/>
            <a:ext cx="75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What are the stages in the Continuous Quality Improvement Cycle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1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219320" y="609480"/>
            <a:ext cx="67816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rry wrong answe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4800600"/>
            <a:ext cx="2743200" cy="99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3505320"/>
            <a:ext cx="350532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2360" y="3352680"/>
            <a:ext cx="2282400" cy="7034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Try Agai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457200"/>
            <a:ext cx="9144000" cy="6400800"/>
          </a:xfrm>
          <a:custGeom>
            <a:avLst/>
            <a:gdLst>
              <a:gd name="textAreaLeft" fmla="*/ 414720 w 9144000"/>
              <a:gd name="textAreaRight" fmla="*/ 8729280 w 9144000"/>
              <a:gd name="textAreaTop" fmla="*/ 414720 h 6400800"/>
              <a:gd name="textAreaBottom" fmla="*/ 5986080 h 6400800"/>
            </a:gdLst>
            <a:ahLst/>
            <a:rect l="textAreaLeft" t="textAreaTop" r="textAreaRight" b="textAreaBottom"/>
            <a:pathLst>
              <a:path w="30857" h="21600">
                <a:moveTo>
                  <a:pt x="0" y="0"/>
                </a:moveTo>
                <a:lnTo>
                  <a:pt x="30857" y="0"/>
                </a:lnTo>
                <a:lnTo>
                  <a:pt x="30857" y="21600"/>
                </a:lnTo>
                <a:lnTo>
                  <a:pt x="0" y="21600"/>
                </a:lnTo>
                <a:close/>
              </a:path>
              <a:path fill="lightenLess" w="30857" h="21600">
                <a:moveTo>
                  <a:pt x="0" y="0"/>
                </a:moveTo>
                <a:lnTo>
                  <a:pt x="30857" y="0"/>
                </a:lnTo>
                <a:lnTo>
                  <a:pt x="29457" y="1400"/>
                </a:lnTo>
                <a:lnTo>
                  <a:pt x="1400" y="1400"/>
                </a:lnTo>
                <a:close/>
              </a:path>
              <a:path fill="darken" w="30857" h="21600">
                <a:moveTo>
                  <a:pt x="30857" y="0"/>
                </a:moveTo>
                <a:lnTo>
                  <a:pt x="30857" y="21600"/>
                </a:lnTo>
                <a:lnTo>
                  <a:pt x="29457" y="20200"/>
                </a:lnTo>
                <a:lnTo>
                  <a:pt x="29457" y="1400"/>
                </a:lnTo>
                <a:close/>
              </a:path>
              <a:path fill="darkenLess" w="30857" h="21600">
                <a:moveTo>
                  <a:pt x="30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7" y="20200"/>
                </a:lnTo>
                <a:close/>
              </a:path>
              <a:path fill="lighten" w="30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219320" y="0"/>
            <a:ext cx="48765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ff00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ngratulation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ff0033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2819520" y="4191120"/>
            <a:ext cx="2209680" cy="144756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2286000"/>
            <a:ext cx="8229600" cy="3657600"/>
          </a:xfrm>
          <a:prstGeom prst="irregularSeal2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51400" y="3681360"/>
            <a:ext cx="294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ORRECT!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3T22:35:32Z</dcterms:created>
  <dc:creator>jonesd</dc:creator>
  <dc:description/>
  <dc:language>en-US</dc:language>
  <cp:lastModifiedBy>jonesd</cp:lastModifiedBy>
  <dcterms:modified xsi:type="dcterms:W3CDTF">2002-06-23T21:01:06Z</dcterms:modified>
  <cp:revision>10</cp:revision>
  <dc:subject/>
  <dc:title>Select  A  B or C</dc:title>
</cp:coreProperties>
</file>